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FC5-DFA1-43D2-AB8C-44AC5F92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670-CE71-4BF7-987D-13C22231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E28-5506-43A5-AD42-359EBF09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220-2B93-47DA-A4B1-29A0D3C1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D5C-62B3-44DE-88BB-A6805FDD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530-6E1E-4F56-9394-35B5416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A6C-E320-474E-837F-40E134A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1C9-45B2-4FE7-96AC-0F51F2DC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79C-9401-45D7-95A0-FDDC9AFD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BE7-3B71-4DE8-BAE5-1C309F1A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CC5-68E8-48E8-AE90-2AF49270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DF4-F0F5-4057-B58F-E2A34828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BB23-9A1D-457C-B741-06E658EE0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9640" y="549360"/>
            <a:ext cx="7777440" cy="583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3300"/>
                </a:solidFill>
                <a:latin typeface="comic"/>
              </a:rPr>
              <a:t>MY FAVOURITE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KITARO. MÚSICA INFIN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HE SMITHS. INGLATERRA SU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KEANE. EL NUEVO 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SICA AMBIENTE. BRIAN 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 AGE. MICHAEL NY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8:22:37Z</dcterms:created>
  <dc:creator>WinuE</dc:creator>
  <dc:description/>
  <dc:language>en-US</dc:language>
  <cp:lastModifiedBy>WinuE</cp:lastModifiedBy>
  <dcterms:modified xsi:type="dcterms:W3CDTF">2011-02-14T08:43:11Z</dcterms:modified>
  <cp:revision>2</cp:revision>
  <dc:subject/>
  <dc:title>MY FAVOURITE MUSIC</dc:title>
</cp:coreProperties>
</file>